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94E-C24A-4CAE-8CCC-43083CED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698-1C21-48AF-93F1-A731984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CF3-C5C1-4C37-8883-6F54BA40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637-ECB8-469F-A188-A7ACD85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3BA-1755-49BE-AF45-385FAEF3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87D-3EAE-4879-A6E5-AB5E3FE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036-44E5-4FB2-A163-00AF895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128-0243-4DD9-A8CB-68A091D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603-4538-43BF-94EE-0944216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076-D00D-4662-8C16-ED54E34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1D2-CFC3-4BF7-9DB2-078BE658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B66-A846-4A6B-B84A-B13E01E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E2D-E7DF-415F-8EEE-903F3298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notes for Quadratics before class starts!  We have not seen these i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e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cer ball is kicked with an initial velocity of 3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0t + 45.  How high would the ball be after 2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many seconds does the ball reach it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member how to label th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828800" y="4572000"/>
          <a:ext cx="1219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1219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ball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Plug i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equation to solve for its maximu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Try… A small company markets a new toy.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s, in dollars, the total sal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function of the pr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) What price will produce the highest total s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) What is the maximum total sales predi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"/>
          <p:cNvGraphicFramePr/>
          <p:nvPr/>
        </p:nvGraphicFramePr>
        <p:xfrm>
          <a:off x="5486400" y="1143000"/>
          <a:ext cx="284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84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2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Ways to Solve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re it crosses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-Rooting” (*only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3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2m = -7 by grap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6 = 0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square-rooting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4x - 21 = 0 by fact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4x - 68 = 0 using the quadratic form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(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4) = 32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hot upward with an initial velocity of 24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40t.  For what values of t will the object be at 416 feet above the 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46:39Z</dcterms:created>
  <dc:creator>Sharon Fieldman</dc:creator>
  <dc:description/>
  <dc:language>en-US</dc:language>
  <cp:lastModifiedBy>sfieldman</cp:lastModifiedBy>
  <dcterms:modified xsi:type="dcterms:W3CDTF">2011-05-16T14:50:13Z</dcterms:modified>
  <cp:revision>16</cp:revision>
  <dc:subject/>
  <dc:title>Goal 4.02 Quadratic Functions</dc:title>
</cp:coreProperties>
</file>